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E4E-9214-41F6-9937-87234BAF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32E-6351-4F2C-A1C3-ED958150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410-7991-431A-8AEA-CAE61C8F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CA6-6B24-40BE-9E11-09D43436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BCB8-C5E0-44D6-8216-701A8E15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22E6-9CF6-48E7-9E2B-B9C15C37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D0AD-98B7-4394-8E8E-97160D2D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F498-69C2-44F7-B45F-41DB31FF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19B8-A4A3-4B88-B779-63C44AD5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39C0-3E6C-4878-B993-0C2AFDDF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74E5-2D5F-4173-8274-894A474B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854-8E53-4F51-B817-F85D026C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E09F-AD59-4AF4-829B-0AD07BED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2081-D18A-4490-8FCE-8BBA8E1F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BBD6-7049-443C-83F0-FF00F6AB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CF5B-2C94-4993-ABF3-69783242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2128-106E-4FC3-B007-559BD1AF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D27F7-6559-4E25-8D9F-E6D69819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F2C76-94A6-4B6E-98EE-EADF5100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A5088-9261-457A-8F71-29A900CE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2D33-F687-4861-ACD4-418F1AAB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F63ED-E099-4362-8D37-017E9B6B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1C1A-4437-404D-B32C-4E6778E4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BA7AF-52AC-4758-99E5-8767D753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A3450-8CB5-4D06-AED9-889C3E27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3C53-3CDF-4966-B84D-15BB9533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F8BC-66D5-4B11-B626-0420AFBA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CA133-793B-4888-A111-F780AF0F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964E2-539F-49BD-AB61-158A7FB3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8C78-5C8F-4ED0-911D-3A82662A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54C5A-E568-402B-A93D-CFEC7973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0244A-48BE-4A20-A081-A59C8E74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8F85D-D8E8-4D3D-ABC8-3236261F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871-65F9-4170-A35A-2D777256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B98B9-9DDB-4E60-A83B-C6C2F4B2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4A930-BD6C-453A-972F-B83FAE3B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17AE3-3DC0-4A99-B21C-5F5E80ED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19C7C-4840-4F43-A7F2-2CD4F0E5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A865D-326A-47CB-B99E-9FF95569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DFBFF-1CE9-4A43-A641-9421041D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41D79-8B0E-4E9D-ACEF-D1642AD2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8E394-EEC3-47D7-8ADD-300DB44F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61E45-5C36-41D0-B2B5-D7FA6379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F473F-CADF-4799-B6BD-CFE307A5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3B6-57CD-4E7E-8C57-A16119A7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9C7EA-AECB-4D15-AEEF-D2819D09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62B45-1433-4EEC-91E9-0D64EE4A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A8105-3BB8-47A9-812A-879FF96A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6605B-26EC-48DC-A8FD-7836E216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35545-1958-4BCC-9648-279DC079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9556A-817C-4F8D-804F-C4A79F8C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C7DF0-BDD3-4915-85EC-0CB16F6D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92476-BDE7-4A84-BCB7-33E3BB42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EC514-31B9-4C5C-94B5-C006AB98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E84A8-4ADB-4369-89D7-579B2D68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A44-350F-446F-9082-4F8B3900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046B4-3560-462D-A541-C6EA0B1F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4553C-5CE9-4781-B982-F4DF417A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8B29B-6318-46A3-A691-58340610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1F8F3-C03F-47A0-8957-D051DF58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A00C6-3CF5-4E80-B98D-7AD195F0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D6B5B-0764-4186-80FB-20C2297C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0B15C-DE25-4257-A7F5-551C2B73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41FD2-E0A3-46B4-B9E7-D08651D3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5D9B7-EDC6-44F4-8FBB-E43B3B45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E6789-6861-4137-B4FE-FC88BFFE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EED-6AD1-425C-9E24-3BB50AA7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D72D7-2762-444E-B5D0-2612093B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438E9-394C-4178-AA83-10659479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06D0B-A52B-4469-9EF2-CEF00D06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85D-61E2-4FE1-9C13-D50A0CB8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530-C91E-4C47-8B89-A6B371A2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08FD-9B60-4B8E-99D5-E94CCDD9A8E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6BB8-E3C2-4348-A232-90E1C31976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5417-1873-4DCE-B83C-6E32002D1E3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2AB2-4460-411A-A25F-A64D65C837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6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6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7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7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5601-FF4B-440B-8DD1-A9EF11226D8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4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5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6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6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8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BAB9-9CE9-4EE7-AF18-94E9252E27F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Тема проект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25240" y="3713040"/>
            <a:ext cx="63961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99"/>
                </a:solidFill>
                <a:uFillTx/>
                <a:latin typeface="Verdana"/>
              </a:rPr>
              <a:t>Авторы: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4067280" y="6308640"/>
            <a:ext cx="461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000160" y="50720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</a:rPr>
              <a:t>Руководитель:</a:t>
            </a: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облемный вопро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Ход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ьзуемые материа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User_02</cp:lastModifiedBy>
  <dcterms:modified xsi:type="dcterms:W3CDTF">2009-11-30T08:56:18Z</dcterms:modified>
  <cp:revision>63</cp:revision>
  <dc:subject/>
  <dc:title>Слайд 1</dc:title>
</cp:coreProperties>
</file>